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652-B0D4-4A46-B8E7-203DFAD1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1F4-425C-49E3-9329-4F355C8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2F3-0782-4D13-A30F-BC60A236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AD8-7C75-4B61-B872-64F5C63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706-A8BF-4638-84E6-50F1931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BD7-C87B-46B8-A6D0-4CDCC73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538-553D-4FCC-9051-DF6B3766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3E8-727E-43A1-BA5E-5D475D5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7D7-1452-4E90-8E89-FFE8C5FC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3C3-F930-4808-9D7D-B8A40CB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1C5-2B02-4CA2-8B73-20DADF3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7E9-BE14-4486-A886-7EC0A99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D0BA0-7827-4B33-94E0-5C0B4B137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60C7-B013-4F4F-BC4C-A24726546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27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inking back to our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rassroots mov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do you THINK “a movement” mea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rganized action of a group of people with a common ideology (beliefs/ide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What do you THINK would cause Mexican- Americans/Chican@s to begin a mov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PAGE 14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26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tle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tart of the Chicano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your page into three equal se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blem: Why did Mexican-America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trategies/Methods of organi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s of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146320" y="4984920"/>
            <a:ext cx="5702400" cy="855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atch 27 minutes of Chicano! And complete notes on page 1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308400" y="6167520"/>
            <a:ext cx="33048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outu.be/sRWnfTmN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1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hree images and/or stories from the early start of the Chican@ Movement stand out to you most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 &amp;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46988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can@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tionalit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alk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tin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thnicit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own Ber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spanic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ace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grant worke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sar Chav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ed Farm Worker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lores Hue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 Mexican War of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ghtbacknews.org/2003winter/brownberet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8:46:54Z</dcterms:created>
  <dc:creator>Teacher</dc:creator>
  <dc:description/>
  <dc:language>en-US</dc:language>
  <cp:lastModifiedBy>Teacher</cp:lastModifiedBy>
  <dcterms:modified xsi:type="dcterms:W3CDTF">2012-03-15T00:03:28Z</dcterms:modified>
  <cp:revision>2</cp:revision>
  <dc:subject/>
  <dc:title>START UP – Top ½ 142</dc:title>
</cp:coreProperties>
</file>